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ADC-A9CC-45CB-9500-10C23EAA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8EB-5191-4432-9AAD-7A0A296B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FFD-59E5-4D9A-A49C-DCBF061A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C41-260E-4C42-AACE-94E230BB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A81-8B67-4C1E-9BBC-2F0F79D2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D60-F54A-42BB-BE2A-A4E67690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6CC-5CEC-4BBE-A724-C342E406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5B1-535B-41CF-8B4C-E754A24F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1CA-1274-4A29-B728-4B86E9C1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CF7-0251-4CA9-B7AA-F9F1DB8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DBB7-7A49-4E86-BC6A-1C01622F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CA1-1DF9-427D-9877-DC395254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D29B-9BF3-4962-A595-F88049692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75582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фармацеута у припреми и примени цитостатске терапије. Набавка, транспорт, припрема и примена цитостатика. Поступак при просипању цитостатика на радну површину или под. Мере индивидуалне заштите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 отклањање цитостатских препарата по истеку рок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к са испражњеним бочицама и бризгалицама из којих је примењен цитостат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радиоактив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активност се мери Бекерелим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querels (Bq)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и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q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распад /секу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диофармацији вредности се мери мега- и гига- Бекерелима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 =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 1 г радијума/ секунди , није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 Bq = 2,7 x 10-11 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 Ci = 37 GB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реме полуживота = време за које се иницијална радиоактивност смањи на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идеалног радиофармацеу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зрачења: Чист негатронски емитер: емитује негативно наелектрисане честице – омогућен је велики линеарни пренос енергије, а смањује се дозу зрачења за околна здрава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идеалног радиофармацеу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(зрачење) честица: идеално је уколико су честице средње или велике енергије (веће од 1 максималне бета енерг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живот честица: идеално када је у данима, лака контрола дози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идеалног радиофармацеу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однос циљни орган/нециљни орган – обезбеђује селективно зрачење, а мање оштећење здравог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– приступачност омогућава употребу у многим установ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о зрачење особљ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зраче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 користе три основна типа зра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сије алфа честица, емисије бета честица и Аугер и Костер Корингова емисија елек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а зрачење има значај у дијагност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радиофармацеу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штитасте железде – 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1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ироидизам  - 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1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бола код метастаза на костима, услед постојања карцинома дојке и простате –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 тенден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 имају способност да се вежу за рецептор ћелије коју треба да униште (моноклонска антитела, лиганд рецептори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руковања радиофармацеутиц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е су мере заштите при употреби радиофармацеутика (потенцијално опасни и по особље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принципа: принцип оправданости (оправдано индикацијом), принцип оптимизације 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low as reasonable achievabl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инцип огранич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спону препоручених до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нци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ципа на технике руковања радиофармацеутицима подразумева редуковање излагања радијационим доз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ципа чине: време, растојање, зашт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нци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ужина излагања извору зрачења је директно пропорционална примљеној дози – што је краће време излагања то је мања примљена доза и обрну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ојање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дијациона доза је обрнуто сразмерна квадратном корену дужине растојања од извора зрачења. Повећање удаљености се постиже манипулативним техникама, употребом форцепса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сегмент фармације проучава радиофармацеут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 су медицинска средства која у свом саставу садрже радиоизотопе који су безбедни за хуману примену у смислу дијагностике или терап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изотоп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том са нестабилним 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 који може емитовати енергију или у виду новог атома са језгром или у виду атоимских чес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нци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штит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радијациона доза се може смањити употребом штита између оператера и извора зрачења. За заштиту од гама зрачења се користе зидови направљени од тешког бетона, оловних циг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радиофармацеу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 радиофармацеутика обавезно је водити рачуна о основном принципу: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зард мора бити сведен на миниму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: максимална количина фотона  док излагање зрачењу мора бити сведено на оптимални миниму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к садржи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а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екул и радиоактивну честицу. Молекул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е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носи радиоактивност до циљног органа и треба да обезбеди да тај молекул и остане на циљном орг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преузимања радиоактвне честице треба да буд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а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би се оштећење других органа свело на миним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је посебно значајно када је у питању терапијски радиофармацеу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ијагностичког радиофармацеутика преузимање и локализовање треба да буде у органу који се испит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осебног значаја је и способност органа да преузме радиофармцеутик али и способност носача да преда радиофармацеу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у питању припрема радиофармацеутика који у себи садржи честицу обележену радио изотопом, неопходно је да део радиофармацеутика буде замењен атомом или групом атома који су обележени радиоактивном чести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 оваквог препарата, неопходно је добро познавање хемијских и физичких карактеристика самог лека, али и добро проценити количини лека која се мења радиоактивним лиган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корак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ање облика који је одговарајући за клиничку примен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овећати величину препарата: или повећавањем укупног волумена лека или повећањем специфичне активности препар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з: 1. потенцијално нарушавање стабилности препарата и радиолиза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опходне су додатне мере заштите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 који се морају испунити при руковању са радиофармацеути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радиофармацеутицика подразумева и  потенцијални хазард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роцес производње ових лекова ограничити на просторије које су посебно пројектоване и испуњавају све критеријуме безбедности предвиђене протоколом за рад са радиофармацеути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 </a:t>
            </a: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isotope laboratories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 који се морају испунити при руковању са радиофарма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не сме бити контаминиран током рада од стране опера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и околина не смеју бити контаминирани радиофарм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е препоруке чине основу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P-a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P – Good Radiopharmaceu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actic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к се припрема у строго контролисаним условима, где је приступ ограничен и то искључиво обученом особљ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ринципи за рад подразумевају поступање са радиофармацеутиком узимајући у обзир: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ојање, време и заштит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посебно едуковано особље има приступ радиофармацеутиц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именовати једну особу која руководи радиофармацеутицима и особљ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са радиофармацеутицима подразумева постојање асептичних услова (стерилне капе, маске, рукавице, мантил, стерилне игле и бризгалиц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а је да рад у оваквим лабораторијама буде стандардизован употребом процедура (</a:t>
            </a: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perating procedures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Ps)), које су увек доступне свим запосленим лиц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радиофармака су у облику препарата намењених за интравенску приме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оваквих облика се одвија у условима асепсе, у хоризонталним ламинарним коморама најчешћ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им просторијама је строго забрањен унос хране, пића, прибора, козметичких и других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емитују радиоактивно зрачења, намењени хуманој употреби за дијагностику или терапију бол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 разнолике представнике: неорганска једињења, органска једињења, пептиде, протеине, моноклонска антитела и њихове фрагменте, означене радионуклидом чије време полуживота варира од неколико минута до неколико д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примене радиофарм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запослени морају носит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е дозиметр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име се проверава свакодневно ниво зрачења и евентуална контамин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рипреме радиофармацеутика, неопходно је опрати руке, и заштитити сваки дефект коже (водоотпорним материјали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 облачи заштитне капуте и мантиле као и рукавице при припреми и издавању радиофарм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е које се користе без слоја талка (зачепљење филтера). Слој талка треба уклони алкохолом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ршеној припреми радиофармацеутика, неопходно је пажљиво одстранити рукавице (контаминиране материјалом), поново опрати руке и скинути заштитни мантил који се баца уколико је за једнократну употре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материјал који је био у контакту са радиофармацеутиком се третира као радиоактивни отп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 опр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а за заштиту особљ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а опрема: опрема која повећава удаљеност од изв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цепси, хватањк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мена штитова за смањење контаминације, посебна врста посуђа за скупљање радиоактивног материјала у случају просипања, бризгалице, бочице које морају бити заштић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ршеном послу, лабораторијску опрему треба очистити у складу са препорукама и чувати ван ком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са радиофармацеутиц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 опрема и радиофармацеутик треба да буду у ком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 опрема и посуде које садрже радиофармацеутик морају бити заштићене током руков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а процедура мора бити осмишљена да се степен контаминације сведе на миним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предвидети хазарде и поступке за уклањање контаминираних делов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ње са радиофармацеути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фармацеутици се чувају, процесирају, пакују и контролишу у простор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је намењен радиофармацеути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ма која се користи за рад са радиофармацеутицима мора искључиво да се користи за ове препара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 радиофармацеутицима и овим просторијама имају само овлашћене осо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 за технецијум-99м и радиофармацеутици које садрже технецијум морају бити у посебној простор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ње са радиофармац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 технецијума – 99м мора бити заштићен оловним плочама са пластичним омотач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игле генератора се морају затварати оргиналним капиц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неопходно да радиофармак буде стерилан, израђује се у ламинарним коморама са посебним ХЕПА филтери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 -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лечење коштаних метаст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орално или интарве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– емитер, нема додатног гама 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 се за кристале хидроксиапатита, али и за костану срж (није довољно селективан, оштећује костну срж што ограничаав примен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и одговор -  70-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мање токсичности за исту индикацију: Стронцијум-89 и Самаријум-153ЕДТ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 - 1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еми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довољно дуг полу живот од 8.1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ан је према ткиву штитасте жлезде (преко 9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ције: хипертироидизам и карцином штитасте жл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 примене радиофармацеу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т пријављивљња нежељених дејстава радиофармацеутика нижи у односу на друге ле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нежељене реакције радиофармацеутика се могу у клиничком смислу описати као: анафилактичке реакције, одложене алергијске реакције, пирогене реакције и васкуларне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јација коју емитују ови лекови може да оштети ткива, неопходна је прецизна дистрибуција до циљних орг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: дијагностички и терапијски радиофармацеутици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нуклиди постижу стабилност радиоактивним распа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ад је познато око 3000, али се само 30 користи у биомедицинским наук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су природног порекла, мада се могу добити у нуклеарним реакторима, линеарним акцелераторима и циклотрон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зрачењ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α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β-), (β+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а зрачењ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γ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чки радиофармаци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β+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γ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и радиофармаци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α), (β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а зрачење је електромагнетско зрачењ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љени у дијагностичке сврхе морају поседоват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г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се детектују ван тела пације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на вредност је 1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V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количина зрачења која се добија у нуклеарној медицини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 зрачењу које се добија при рендгенолошким испитивањ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α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рачење се одликује емисјом алфа честица, честице се моноенергетске и имају врло мали домет; клиничка примена ограничена и  у фази испитива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β-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ад очекујемо код честица богатих неутонима, користи се у терапијске сврхе, с обзиром да ове честице имају различите енергетске нив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β+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итронски распад се користи у дијагностичке сврхе или за означавање радиофарм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распадом нуклеида богатих позитрони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распада позитрони се комбинују са електронима, анихилирају се при ч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тају два протона од 511ke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9:40:27Z</dcterms:created>
  <dc:creator>Bill Gates</dc:creator>
  <dc:description/>
  <dc:language>en-US</dc:language>
  <cp:lastModifiedBy>Marina Kostic</cp:lastModifiedBy>
  <dcterms:modified xsi:type="dcterms:W3CDTF">2023-09-11T10:12:38Z</dcterms:modified>
  <cp:revision>72</cp:revision>
  <dc:subject/>
  <dc:title>Улога фармацеута у припреми и примени цитостатске терапије. Набавка, транспорт, припрема и примена цитостатика. Поступак при просипању цитостатика на радну површину или под. Мере индивидуалне заштите.     Безбедно отклањање цитостатских препарата по истеку рока. Поступак са испражњеним бочицама и бризгалицама из којих је примењен цитостатик</dc:title>
</cp:coreProperties>
</file>